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94B-72EC-4AC4-83FA-813131A5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500-CDE7-4850-8F5A-5212A69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FF9-B4D4-43C8-95D1-CA3C17FB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E30-EF3D-4224-A6E9-C4C6EBFD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5878-FE65-4D4D-B073-EF88E563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DE5F-C93E-4F1F-B070-A56DD9D0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1647-2B4C-424B-A739-4CD6FF9C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485-744A-4A62-A6B9-2773386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C112-6826-44D2-A77B-D7356BC9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8BBC-609E-4D9E-AD97-ABA9871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D80C-86C5-4E32-A5E8-5F9B9FE6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B07-AB62-47BC-99F4-24B543A3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FF3D-8607-4D4C-A428-EE98B18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3ED1-3519-459E-BDDF-5542B63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E509-91A7-47BC-A02D-7096D88F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0FA-FC04-4BCD-9A06-1D32DBA3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6CC-8873-4B81-8AB8-A08F99D8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FDE-0132-463B-AC92-78B9940C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3AC-21DA-4A6F-9260-75176206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0CB-6795-422B-B68C-1343C1A3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E8E-FD50-460D-9175-B2DC49E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88A-1D81-4C67-B2A6-ECC4440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893-3125-4E12-92DA-3F9F53A1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CDF-1B8E-4D0E-B479-E0EA6C04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19C-5F2B-4452-A7A2-126C42BD2A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2691-C473-48BB-B847-00314D6AF1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ntabilitatea capitalului propriu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820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ctiv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unea si structura capitalului propri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formarii si modificarii capitalului statutar. Contabitatea capitalului nevarsat, suplimentar si ret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rezerve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profitului net si a profitului nerepartiz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bilitatea capitalului secu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501336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649116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ontabilitatea majorarii capitalului statu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area capitalului statutar poate fi efectuata prin urmatoarele meto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ajorarea valorii nominale a actiunilor plasa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lasarea actiunilor din emisiune suplimenta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sele de majorare a capitalul statutar pot f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Sursele proprii ale intreprinderii (profit nerepartizat al anilor precedenti, profit net al anului de gestiune, rezerve, capital suplimentar, etc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2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nerepartiza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34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profitului anului de gestiune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21, 322, 323  Ct 311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din contul rezervelo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Times New Roman"/>
              </a:rPr>
              <a:t>Aporturile depuse de actionar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4  Ct 537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flectarea mijloacelor b[ne;ti depuse in contul achitarii actiunilor din emisie suplimentara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537  Ct 311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ajorarea capitalului statutar pe seama aporturilor depuse de fondator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2, 243  Ct 244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trecerea mijloacelor bane;ti de la contul special la contul cur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aca actiunile se vand la un pret mai mare sau mai mic ca valoarea nominala, diferenta se contabilizeaza ca capital suplimentar . In debetul sau creditul contului 2312 “Capital suplimenta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iuplimenta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81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talul suplimentar se formeaza la efectuarea urmatoarelor operatiu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, la crearea acesteia, la valoarea ce difera de cea nominala - Dt 242, 243, 121, 123, 211, 217, etc.  Ct 312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tarea cotelor in capitalul statutar al intreprinderii la majorarea acestuia, la valoarea ce difera de cea nominala – Dt 312 Ct 311 sau Dt 537  CT 3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anzarea cotelor rascumparate anterior la un pret ce difera de valoarea de rascumparare – Dt 312   Ct 314 sau Dt 314  Ct 31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ularea actiunilor rascumparate anterior la un pret ce difera de valoarea nominala; Dt 314  Ct 312 sau 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erntele de curs aparute la depunea aporturilor in valuta straina  Dt 243  Ct 312 sau Dt 312  Ct 31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contractului de constituirea a societăţii pe acţiuni „Dagvin - Plus”, s-a decis formarea societăţii cu un capital de 80000 lei care este divizat în 5000 acţiuni simple. Acţiunile sunt plasate la preţul de 20 lei / unitatea. Până la înregistrarea de stat a întreprinderii fondatorii au transferat mijloacele băneşti la contul bancar provizoriu în proporţie de 100 % din valoarea acţiunilor plas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Peste 3 luni a fost anunţată emisia suplimentară a 2000 acţiuni, care au fost plasate la preţul de 15 lei / acţiune. Plata acţiunilor din emisia suplimentară este efectuată prin transferarea mijloacelor băneşti la contul bancar provizoriu. În decursul a 15 zile totalurile emisiei suplimentare au fost înregistrate la Comisia Naţională a Valorilor Mobili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l 2 (rezolvare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692280"/>
          <a:ext cx="9144000" cy="5810040"/>
        </p:xfrm>
        <a:graphic>
          <a:graphicData uri="http://schemas.openxmlformats.org/drawingml/2006/table">
            <a:tbl>
              <a:tblPr/>
              <a:tblGrid>
                <a:gridCol w="411120"/>
                <a:gridCol w="5919840"/>
                <a:gridCol w="1041480"/>
                <a:gridCol w="823680"/>
                <a:gridCol w="94788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plasate la crearea societăţ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((20 - 16)* 5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casarea mijloacelor băneşti din emisiunea suplimentară de acţiuni (2000 * 1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jorarii capitalului statutar la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e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nomina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 acţiunilor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diferenţei dintre preţul de vânzare şi valoarea nominală a acţiunilor plasate din emisia suplimenta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cerea mijloacelor băneşti de la contul provizoriu la ce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e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sor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ul statutar poate fi diminuat pr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Micsorarea valoarii nominale a actiunilor plas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332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oprirea pierderilor anilor precedenti din contul micsorararii capitalului statuta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Ct 53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sorarea capitalului statutar prin rambursarea diferentei fondatoril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Anularea actiunilor rascumpara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t 311   Ct 3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capitalului retr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valoarea de rascumpararea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oarea de rascumparare a actiunilor retrase din circul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241, 242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lt; Vnom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l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ularea actiunilor rascumparate, la valoarea nomina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nominala (Vrasc. &gt;Vnom.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anzarea actiunilor rascumparate, la valoarea de revanz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241,242  Ct 31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erenta dintre valoarea de rascumparare si valoarea de revanzare (Vrasc.&gt;Vrevanz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t 314  Ct 3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                              314 “Capital retras”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276640"/>
            <a:ext cx="417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ocietatea pe acţiuni „Treza - Tur” a răscumpărat de la acţionarii săi la 16 aprilie, în scopul prevenirii scăderii cursului acţiunilor, 4000 acţiuni proprii cu valoarea nominală de 75 lei acţiunea la preţul de 80 lei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august au fost revândute 1800 acţiuni la preţul de 77 lei / acţiunea, iar la 20 august a fost înregistrată micşorarea capitalului statutar prin anularea a 1500 acţiuni. Ulterior, la 25 septembrie au fost revândute 700 acţiuni la preţul de 86 lei / unitat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e reflectat în conturi operaţiile economice de mai 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3</a:t>
            </a:r>
            <a:r>
              <a:rPr b="1" lang="en-US" sz="16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981000"/>
          <a:ext cx="8229600" cy="5904000"/>
        </p:xfrm>
        <a:graphic>
          <a:graphicData uri="http://schemas.openxmlformats.org/drawingml/2006/table">
            <a:tbl>
              <a:tblPr/>
              <a:tblGrid>
                <a:gridCol w="289080"/>
                <a:gridCol w="5400360"/>
                <a:gridCol w="935280"/>
                <a:gridCol w="720720"/>
                <a:gridCol w="884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răscumpărarea acţiunilor proprii de la acţionari (40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0 lei / acţiune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1800 acţiuni la 1 august (18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7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0 - 77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valoarea nominală acţiunilor anulate (15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75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diferenţa dintre preţul de răscumpărare şi valoarea nominală a acţiunilor anulate ((80 – 75)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înregistrează revânzarea a 700 acţiuni din 25 septembrie (700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86 le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 reflectă suma diferenţei dintre preţul de răscumpărare şi cel de revânzare al acţiunilor ((86 - 80)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abilitatea rezervel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zervele se formeaza din profitul ne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ituirea rezervelor se reflecta in contabilitate in baza extrasului din procesul verbal al adunarii organului imputernici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zarea rezervelor se contabilizeaza in baza deciziei de inregistrare a modificarii capitalului statuta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m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nerepartiz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2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 contul profitului anului de gestiun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3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Ct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321,322,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tilizarea rezerve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operirea pierderi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3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area capitalului statutar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a dividendelo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21,322,323  Ct 5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 ianuarie  rezervele prevăzute de statut ale societăţii pe acţiuni „Mioriţa” constituiau 25000 lei. Pe parcursul anului au avut loc următoarele modificări în fondul rezervelor statut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15 martie au fo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t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 prevăzute de statut din profitul anului precedent –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6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20 aprilie au fost achitate dividende pentru acţiuni preferenţiale din contul rezervelor statutare – 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la 30 aprilie a fost efectuată majorarea rezervelor statutare pe seama capitalului suplimentar –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 august s-a hotărât de a majora capitalul statutar al întreprinderii, d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ul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rezer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statutare 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000 le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în luna noiembrie au fost efectuate defalcări în fondul de rezerve pe contul profitului anului de gestiune curent – 5000 l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imes New Roman"/>
              </a:rPr>
              <a:t>Se cer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: de reflectat în conturi operaţiile economice de mai sus şi de determinat soldul contului 322 „Rezerve prevăzute de statut” la finele anulu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Bibliografia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382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92280"/>
            <a:ext cx="88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contabilitatii/ Contabilitate si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Bazele conceptuale ale pregatirii şi prezentării rapoartelor 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MO nr. 88-91 din 30 decembrie 1997 sau Contabilitate şi audit, 1998, nr. 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lanul de conturi contabile ale activităţii economico-financia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2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.M. privind societăţile pe acţiuni  Nr.1134-XIII  din  02.04.97/ Monitorul Oficial al R.Moldova nr.38-39/332 din 12.06.1997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a RM cu privire la întreprinderea de stat nr. 146   din 16.06.94/ Monitorul Oficial nr 002 din 25.08.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e cu privire la înregistrarea de stat a întreprinderilor şi organizaţiilor nr. 1265/ Monitorul Oficial nr 031 din 22.03.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egea RM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u privire la asociaţiile obşteşti nr. 837   din 17.05.96/ Monitorul Oficial nr 006 din 23.01.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TARIRE cu privire la aprobarea Regulamentului privind pregătirea procesului de convertire în acţiuni a datoriilor faţă de stat nr. 95   din  31.01.2005/Monitorul Oficial nr 024 din: 11.02.200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 “Stocurile de mărfuri şi materiale”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6 “Active materiale pe termen lung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ontabilitate şi audit , 1998, nr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.N.C. 20 “Contabilitatea subvenţiilor de stat şi publicitatea asistenţei de stat”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 C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ntabilitate şi aud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ontabilitate financiara, colectiv de autori, coord. A. Nederita, ACAP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074600"/>
            <a:ext cx="84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l 4 </a:t>
            </a:r>
            <a:r>
              <a:rPr b="1" lang="en-US" sz="12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692280"/>
          <a:ext cx="8229600" cy="3929040"/>
        </p:xfrm>
        <a:graphic>
          <a:graphicData uri="http://schemas.openxmlformats.org/drawingml/2006/table">
            <a:tbl>
              <a:tblPr/>
              <a:tblGrid>
                <a:gridCol w="547560"/>
                <a:gridCol w="5222880"/>
                <a:gridCol w="865440"/>
                <a:gridCol w="718920"/>
                <a:gridCol w="8748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martie – se reflectă suma defalcărilor efectuate în fondul rezervelor statutare pe seama profitului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 aprilie – calculul dividendelor din contul rezervelor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aprilie – se reflectă majorarea rezervelor statutare pe seama capitalului suplimen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august – utilizarea rezervelor prevăzute de statut pentru majorarea capitalului statut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rezervelor prevăzute de statut pe seama profitului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69080" y="4651920"/>
            <a:ext cx="28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22 „Rezerve prevăzute de statut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71640" y="5038560"/>
          <a:ext cx="2286000" cy="18190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1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3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 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 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t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10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290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o-RO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19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882000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terminarea profitului net (pierderii) al anului de gestiun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cheltuiel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Ct 711, 712, 713, 714, 721, 722, 723, 73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33  Ct 3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4956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a totala a venituri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611, 612, 621, 622, 623 Ct 35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t 351  Ct 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13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362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tul net (pierderea) se determina la finele anului de gestiune prin inchiderea conturilor de venituri si cheltuieli in contul 351 “Rezultat financiar tot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351 “Rezultat financiar total”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2852640"/>
            <a:ext cx="0" cy="400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33 “Profit net (pierdere) al perioadei de gestiune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ierderii anului de gesti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5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uarea profitului net cu suma profitului utilizat (la reformarea bilantulu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ierderii anului de gestiune la pierderile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3  Ct 3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area profitului anului de gestiu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51  Ct 33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cerea profitului anului de gestiune la profitul nerepartizat al anilor preced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32  Ct 3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572000" y="1484280"/>
            <a:ext cx="0" cy="468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484280"/>
            <a:ext cx="7993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05264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98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Dt                                                                 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Exemplul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28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propriu al societăţii pe acţiuni „Andy” cuprinde: capital statutar, capital suplimentar, rezerve, profit nerepartizat, capital secundar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pitalul statutar al întreprinderii „Andy” SA la 1 ianuar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era dezvăluit în 6000 acţiuni simple cu valoarea nominală de 20 lei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rtie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a fost anunţată emisia suplimentară a 1500 acţiuni simple care au fost vîndute la preţul de 24 lei / acţiu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În luna mai 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la adunarea generală a acţionarilor a fost luată decizia privind majorarea valorii nominale a acţiunilor plasate de la 20 la 25 lei: pe seama profitului nerepartizat al a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or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eced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 - 22000 lei şi a rezervelor statutare – 155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La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s-a calculat profitul net al anului 2005 în sumă de 38600 lei, care la reformarea bilanţului contabil a fost reflectat drept profit al anilor precedenţ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onform deciziei adunării generale a acţionarilor din 15 martie 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 profitul net a fost utilizat astfel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alculul dividendelor acţionarilor în mărime de 1,5 lei / acţiune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majorarea rezervelor prevăzute de statutul în mărime de 12000 lei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falcări în fondul altor rezerve – 5600 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e întocmit formulele contab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emplul 5 (rezolvare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692280"/>
          <a:ext cx="9144000" cy="6127560"/>
        </p:xfrm>
        <a:graphic>
          <a:graphicData uri="http://schemas.openxmlformats.org/drawingml/2006/table">
            <a:tbl>
              <a:tblPr/>
              <a:tblGrid>
                <a:gridCol w="608040"/>
                <a:gridCol w="6078600"/>
                <a:gridCol w="909720"/>
                <a:gridCol w="720720"/>
                <a:gridCol w="8269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ijloacelor băneşti încasate în cursul emisie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limentare a acţiunilor din luna martie 2005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4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nominale a acţiunilor din emisia suplimentară (1500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20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sumei diferenţei dintre preţul de vânzare şi valoarea nominală a acţiunilor din emisia suplimentară (4 le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5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transferării mijloacelor băneşti de la contul provizoriu la cel perman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majorării valorii nominale a acţiunilor, din contul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profitului nerepartizat al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rezervelor statu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profitului net al anului de gestiune cu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 reformarea bilanţului contabil, soldul contului 333 se trece la rezultatele anilor precedenţ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zarea profitului nerepartizat al anului de gestiune precedent, după cum urmeaz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calculul dividendelor acţionarilor (7500 acţiuni 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×</a:t>
                      </a: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1,5 lei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fondului de rezerve prevăzute de stat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majorarea altor rezerve existente la întreprind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ividendelor acţionaril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lementele capitalului propriu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i conturile de evident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33782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30178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5520" y="1636200"/>
            <a:ext cx="4155120" cy="2078280"/>
            <a:chOff x="425520" y="1636200"/>
            <a:chExt cx="4155120" cy="2078280"/>
          </a:xfrm>
        </p:grpSpPr>
        <p:cxnSp>
          <p:nvCxnSpPr>
            <p:cNvPr id="132" name="_s22634"/>
            <p:cNvCxnSpPr>
              <a:stCxn id="133" idx="1"/>
              <a:endCxn id="134" idx="2"/>
            </p:cNvCxnSpPr>
            <p:nvPr/>
          </p:nvCxnSpPr>
          <p:spPr>
            <a:xfrm rot="10800000">
              <a:off x="1668960" y="2239200"/>
              <a:ext cx="416520" cy="131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2632"/>
            <p:cNvCxnSpPr>
              <a:stCxn id="136" idx="1"/>
              <a:endCxn id="134" idx="2"/>
            </p:cNvCxnSpPr>
            <p:nvPr/>
          </p:nvCxnSpPr>
          <p:spPr>
            <a:xfrm rot="10800000">
              <a:off x="1668960" y="2239200"/>
              <a:ext cx="416520" cy="94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22631"/>
            <p:cNvCxnSpPr>
              <a:stCxn id="138" idx="1"/>
              <a:endCxn id="134" idx="2"/>
            </p:cNvCxnSpPr>
            <p:nvPr/>
          </p:nvCxnSpPr>
          <p:spPr>
            <a:xfrm rot="10800000">
              <a:off x="1668960" y="2239200"/>
              <a:ext cx="416520" cy="57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22630"/>
            <p:cNvCxnSpPr>
              <a:stCxn id="140" idx="1"/>
              <a:endCxn id="134" idx="2"/>
            </p:cNvCxnSpPr>
            <p:nvPr/>
          </p:nvCxnSpPr>
          <p:spPr>
            <a:xfrm rot="10800000">
              <a:off x="1668960" y="2239200"/>
              <a:ext cx="416520" cy="21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4" name="_s22626"/>
            <p:cNvSpPr/>
            <p:nvPr/>
          </p:nvSpPr>
          <p:spPr>
            <a:xfrm>
              <a:off x="425520" y="1636200"/>
              <a:ext cx="2491920" cy="6030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tatu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si supliment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2627"/>
            <p:cNvSpPr/>
            <p:nvPr/>
          </p:nvSpPr>
          <p:spPr>
            <a:xfrm>
              <a:off x="2085480" y="229212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1-”Capital satu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2628"/>
            <p:cNvSpPr/>
            <p:nvPr/>
          </p:nvSpPr>
          <p:spPr>
            <a:xfrm>
              <a:off x="2085480" y="266112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12-”Capital suplimentar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2629"/>
            <p:cNvSpPr/>
            <p:nvPr/>
          </p:nvSpPr>
          <p:spPr>
            <a:xfrm>
              <a:off x="2085480" y="3029760"/>
              <a:ext cx="2495160" cy="31608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3-”Capital nerevarsat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2633"/>
            <p:cNvSpPr/>
            <p:nvPr/>
          </p:nvSpPr>
          <p:spPr>
            <a:xfrm>
              <a:off x="2085480" y="3398760"/>
              <a:ext cx="2495160" cy="31572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Times New Roman"/>
                </a:rPr>
                <a:t>314-”Capital retras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61840" y="1559160"/>
            <a:ext cx="3339360" cy="2171520"/>
            <a:chOff x="5361840" y="1559160"/>
            <a:chExt cx="3339360" cy="2171520"/>
          </a:xfrm>
        </p:grpSpPr>
        <p:cxnSp>
          <p:nvCxnSpPr>
            <p:cNvPr id="142" name="_s22643"/>
            <p:cNvCxnSpPr>
              <a:stCxn id="143" idx="1"/>
              <a:endCxn id="144" idx="2"/>
            </p:cNvCxnSpPr>
            <p:nvPr/>
          </p:nvCxnSpPr>
          <p:spPr>
            <a:xfrm rot="10800000">
              <a:off x="6144840" y="1830960"/>
              <a:ext cx="259560" cy="1590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22642"/>
            <p:cNvCxnSpPr>
              <a:stCxn id="146" idx="1"/>
              <a:endCxn id="144" idx="2"/>
            </p:cNvCxnSpPr>
            <p:nvPr/>
          </p:nvCxnSpPr>
          <p:spPr>
            <a:xfrm rot="10800000">
              <a:off x="6144840" y="1830960"/>
              <a:ext cx="259560" cy="95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22641"/>
            <p:cNvCxnSpPr>
              <a:stCxn id="148" idx="1"/>
              <a:endCxn id="144" idx="2"/>
            </p:cNvCxnSpPr>
            <p:nvPr/>
          </p:nvCxnSpPr>
          <p:spPr>
            <a:xfrm rot="10800000">
              <a:off x="6144840" y="1830960"/>
              <a:ext cx="259560" cy="324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22637"/>
            <p:cNvSpPr/>
            <p:nvPr/>
          </p:nvSpPr>
          <p:spPr>
            <a:xfrm>
              <a:off x="5361840" y="1559160"/>
              <a:ext cx="1564920" cy="272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zerv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22638"/>
            <p:cNvSpPr/>
            <p:nvPr/>
          </p:nvSpPr>
          <p:spPr>
            <a:xfrm>
              <a:off x="6404760" y="184644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21-”Rezeve stabilit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de legislatie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2639"/>
            <p:cNvSpPr/>
            <p:nvPr/>
          </p:nvSpPr>
          <p:spPr>
            <a:xfrm>
              <a:off x="6404760" y="247932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2-”Rezerve prevazu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e statut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2640"/>
            <p:cNvSpPr/>
            <p:nvPr/>
          </p:nvSpPr>
          <p:spPr>
            <a:xfrm>
              <a:off x="6404760" y="3112200"/>
              <a:ext cx="2296440" cy="618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23-”Alte rezerve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4760" y="4420800"/>
            <a:ext cx="4111200" cy="2401560"/>
            <a:chOff x="554760" y="4420800"/>
            <a:chExt cx="4111200" cy="2401560"/>
          </a:xfrm>
        </p:grpSpPr>
        <p:cxnSp>
          <p:nvCxnSpPr>
            <p:cNvPr id="150" name="_s22652"/>
            <p:cNvCxnSpPr>
              <a:stCxn id="151" idx="1"/>
              <a:endCxn id="152" idx="2"/>
            </p:cNvCxnSpPr>
            <p:nvPr/>
          </p:nvCxnSpPr>
          <p:spPr>
            <a:xfrm rot="10800000">
              <a:off x="1545480" y="5017320"/>
              <a:ext cx="245880" cy="152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22651"/>
            <p:cNvCxnSpPr>
              <a:stCxn id="154" idx="1"/>
              <a:endCxn id="152" idx="2"/>
            </p:cNvCxnSpPr>
            <p:nvPr/>
          </p:nvCxnSpPr>
          <p:spPr>
            <a:xfrm rot="10800000">
              <a:off x="1545480" y="5017320"/>
              <a:ext cx="245880" cy="9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2650"/>
            <p:cNvCxnSpPr>
              <a:stCxn id="156" idx="1"/>
              <a:endCxn id="152" idx="2"/>
            </p:cNvCxnSpPr>
            <p:nvPr/>
          </p:nvCxnSpPr>
          <p:spPr>
            <a:xfrm rot="10800000">
              <a:off x="1545480" y="5017320"/>
              <a:ext cx="245880" cy="31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2" name="_s22646"/>
            <p:cNvSpPr/>
            <p:nvPr/>
          </p:nvSpPr>
          <p:spPr>
            <a:xfrm>
              <a:off x="554760" y="4420800"/>
              <a:ext cx="1981080" cy="596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rofit nerepartiza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(pierdere neacoperita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22647"/>
            <p:cNvSpPr/>
            <p:nvPr/>
          </p:nvSpPr>
          <p:spPr>
            <a:xfrm>
              <a:off x="1791720" y="505440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2-”Profit nerepartizat (pierde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neacoperite) al anilor precedentii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22648"/>
            <p:cNvSpPr/>
            <p:nvPr/>
          </p:nvSpPr>
          <p:spPr>
            <a:xfrm>
              <a:off x="1791720" y="565596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33-”Profit net (pierdere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l perioadei de gestiune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22649"/>
            <p:cNvSpPr/>
            <p:nvPr/>
          </p:nvSpPr>
          <p:spPr>
            <a:xfrm>
              <a:off x="1791720" y="6257520"/>
              <a:ext cx="2874240" cy="564840"/>
            </a:xfrm>
            <a:prstGeom prst="roundRect">
              <a:avLst>
                <a:gd name="adj" fmla="val 16667"/>
              </a:avLst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334-”Utilizarea profitulu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64600" y="4300200"/>
            <a:ext cx="3005280" cy="2529000"/>
            <a:chOff x="5664600" y="4300200"/>
            <a:chExt cx="3005280" cy="2529000"/>
          </a:xfrm>
        </p:grpSpPr>
        <p:cxnSp>
          <p:nvCxnSpPr>
            <p:cNvPr id="158" name="_s22660"/>
            <p:cNvCxnSpPr>
              <a:stCxn id="159" idx="1"/>
              <a:endCxn id="160" idx="2"/>
            </p:cNvCxnSpPr>
            <p:nvPr/>
          </p:nvCxnSpPr>
          <p:spPr>
            <a:xfrm rot="10800000">
              <a:off x="6463080" y="4653720"/>
              <a:ext cx="201960" cy="171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22659"/>
            <p:cNvCxnSpPr>
              <a:stCxn id="162" idx="1"/>
              <a:endCxn id="160" idx="2"/>
            </p:cNvCxnSpPr>
            <p:nvPr/>
          </p:nvCxnSpPr>
          <p:spPr>
            <a:xfrm rot="10800000">
              <a:off x="6463080" y="4653720"/>
              <a:ext cx="201960" cy="623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0" name="_s22655"/>
            <p:cNvSpPr/>
            <p:nvPr/>
          </p:nvSpPr>
          <p:spPr>
            <a:xfrm>
              <a:off x="5664600" y="4300200"/>
              <a:ext cx="1598760" cy="353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Capital secunda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2656"/>
            <p:cNvSpPr/>
            <p:nvPr/>
          </p:nvSpPr>
          <p:spPr>
            <a:xfrm>
              <a:off x="6665400" y="4812840"/>
              <a:ext cx="2004480" cy="928800"/>
            </a:xfrm>
            <a:prstGeom prst="roundRect">
              <a:avLst>
                <a:gd name="adj" fmla="val 16667"/>
              </a:avLst>
            </a:prstGeom>
            <a:solidFill>
              <a:srgbClr val="b76a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341-”Diferente di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reevaluarea activel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pe termen lung”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2657"/>
            <p:cNvSpPr/>
            <p:nvPr/>
          </p:nvSpPr>
          <p:spPr>
            <a:xfrm>
              <a:off x="6665400" y="5900040"/>
              <a:ext cx="2004480" cy="9291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42-”Subventii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rm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Marimea aporturilor la capitalul statutar este determinanta de actele de constitu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fondatorilor pot f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băneş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mijloace banesti) si </a:t>
            </a:r>
            <a:r>
              <a:rPr b="0" lang="ro-RO" sz="2800" spc="-1" strike="noStrike">
                <a:solidFill>
                  <a:srgbClr val="000099"/>
                </a:solidFill>
                <a:latin typeface="Times New Roman"/>
              </a:rPr>
              <a:t>nebanest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(bunuri aflate in circuitul civil, drepturi pat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ial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porturile nebanesti se evalueaza in conformitate cu prevederile S.N.C. 2, 13, 16, 2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Formarea capitalului statutar se reflecta in contabilitate după înregistrarea de stat a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Acţiunile, cotele de participaţie, la crearea întreprinderii se vând la valoarea nominala sau valoarea de piaţa ce de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ste valoarea nomi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ormulele contabile la formarea capitalului statuta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241, 242, 243 Ct 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punerea mijloacelor banesti ca aport la capitalul statutar, in contul achitarii valorii nominale a actiunilor in baza dispozitiei de incasare sau dispozitiei de p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3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capitalului nevarsat (contract de constituire, stat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11, 112, 121, 123 ,131 ,132, 211, 213, 217, 231, 232, 241, 242, 243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unerea capitalului nevarsat la valoarea de intrare (Proces verbal de primire-predare, factura fiscala, extras din registrul detinatorilor hartiilor de valo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Times New Roman"/>
              </a:rPr>
              <a:t>Dt 534 Ct 3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flectarea TVA aferenta aporturilor nebanesti depus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313 Ct 3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flectarea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iferentei dintre valoare nominala si valoare de piata a actiun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mijloacele fixe depuse in capitalul statutar sunt scutite de 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xemplu 1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12 marti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fondatorii SRL „Cosmidan” au încheiat un contract de constituire a societăţii al cărui capital statutar este de 8000 lei, din care aporturi nebăneşti în valoare de  – 4000 lei. Până la înregistrarea societăţii fondatorii au virat în contul bancar provizoriu mijloace băneşti în proporţie de 40 % din capitalul statutar. La 1 aprilie s-a efectuat înregistrarea de stat a întreprinderii şi astfel la 12 aprilie fondatorii şi-au achitat datoria în capitalul societăţii: mijloace băneşti – 800 lei; „Xerox” color al cărui valoare constituie 4900 lei. Conform deciziei comitetului de conducere a societăţii, suma depăşirii valorii aportului nebănesc asupra părţii sociale cuvenite se consideră drept datorie a societăţii faţă de fondator şi urmează să fie achitată până la sfârşitul lunii curente contra mijloace băneşti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</a:rPr>
              <a:t>Se cere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de reflectat în conturi operaţiile legate de crearea capitalului statutar al întreprinder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emplu 1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(rezolvare)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268280"/>
          <a:ext cx="8147160" cy="5253120"/>
        </p:xfrm>
        <a:graphic>
          <a:graphicData uri="http://schemas.openxmlformats.org/drawingml/2006/table">
            <a:tbl>
              <a:tblPr/>
              <a:tblGrid>
                <a:gridCol w="366840"/>
                <a:gridCol w="5591160"/>
                <a:gridCol w="738360"/>
                <a:gridCol w="649080"/>
                <a:gridCol w="8017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ţinutul operaţ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ma, l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 contabi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b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depuse de către fondato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Înregistrarea valorii aporturilor nedepuse de către fondatori la momentul înregistrării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băneşti depuse de către fondator după înregistrarea de stat 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în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flectarea valorii aporturilor nebăneşti depuse de către fondator după înregistrarea de stat a întreprinderii, peste limita cotei 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itarea datoriei faţă de fondator din casieria întreprinder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ntabilitatea capitalului nevars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a neachitata de fondatori aferenta aporturilor la capitalul statu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313  Ct 3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irea mijloacelor de la fondatori in contul achitarii datoriil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t 121, 123, 111, 112, 242, 243, 211, 213, 217  Ct 3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2000" y="141300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413000"/>
            <a:ext cx="828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98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t                                 313 “Capital nevarsat”                            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9280" y="2133720"/>
            <a:ext cx="410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0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zul in care valoarea estimativa a aportului nebanesc depaseste marimea cotei in capitalul statutar, diferenta poate fi inregistrata, in dependenta de decizia primita, 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orie a intreprinderii fata de proprietar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 121, etc  Ct 53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u primit cu titlu gratuit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t 123,121, etc  Ct 6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ificarea capitalului statut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efectueaza prin majorarea sau micsorarea lui, in conformitate cu legislatia in vigo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zia privind modificarea capitalului statutar se aproba de adunarea generala a asociatilor (SRL) sau actionarilor (SA) sau organelor puterii de stat (intreprindere de stat, municipal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unile de modificare a capitalului statutar se reflecta in contabilitate dupa introducera schimbarilor in Registru de Inregistrare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alitate de docunente justificative pentru inregistrarea modificarilor capitalului statutar in contabilitate servesc extrasul din procesul verbal al adunarii organului imputernicit, statutul intreprinderii, deciyia de inregistrarea a modificarii capitalului statutar eliberata de Oficiul Teritorial al Camerii Inregistrarii de Sta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carea capitalului statutar se inregistreaza la valoarea nominal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32:22Z</dcterms:created>
  <dc:creator> Sandu</dc:creator>
  <dc:description/>
  <dc:language>en-US</dc:language>
  <cp:lastModifiedBy>Admin</cp:lastModifiedBy>
  <dcterms:modified xsi:type="dcterms:W3CDTF">2010-03-23T13:20:06Z</dcterms:modified>
  <cp:revision>25</cp:revision>
  <dc:subject/>
  <dc:title>Contabilitatea capitalului propriu</dc:title>
</cp:coreProperties>
</file>