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7F914-2C65-46A6-9680-12229A42F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0EAA5-F21B-4FD0-A6B0-0CC8C2566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93018-F4CD-4B61-859B-7068E8167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6294B-7DD3-45EB-8251-37FA5D928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910F5-97FD-4F34-AE07-85A38103A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973AE-339B-4D0A-B9D7-0EB007B6E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864A9-7C68-45E3-A0C1-F3B5EAF19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16601-5FD5-46B4-93F6-76D2166A5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26AC5-E6CE-45E8-A238-917116561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27AAE-6BCC-42AE-8F3E-5A6D777A4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91144-C59A-4A87-BFA9-C32A5D45B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2487A-422B-4256-81A2-62BED061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3DDCA-CFE2-416D-A61F-DC4EF84D8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059DB-5F51-44CA-BCEF-9B5E58003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7BF5F-BDFC-4ABA-BF17-6C6A0E041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3BFA0-C52F-4C44-8821-715B99AA3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13CF5-7361-46E9-9239-11C51BDE7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E311-4F1D-476C-B9A3-0EEBC3C9A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06C06-DA43-443D-9C4C-4300F21DE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EC8D-C12C-453E-8296-31EA4EBB7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A639C-86F2-4A56-96BC-8A642E51C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970C-5FB4-45CE-B6D4-5B7645686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17C4-0A3E-4813-ABDE-64C37997E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F16C2-2FBA-4460-93DE-2E3044227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FE96-26F3-47A0-BB8D-0A5613FF3C02}"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F674-B740-4FD9-92D7-491E0600E364}"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0"/>
            <a:ext cx="8991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153" name=""/>
          <p:cNvSpPr txBox="1"/>
          <p:nvPr/>
        </p:nvSpPr>
        <p:spPr>
          <a:xfrm>
            <a:off x="0" y="837720"/>
            <a:ext cx="9144000" cy="5867640"/>
          </a:xfrm>
          <a:prstGeom prst="rect">
            <a:avLst/>
          </a:prstGeom>
          <a:noFill/>
          <a:ln w="0">
            <a:noFill/>
          </a:ln>
        </p:spPr>
        <p:txBody>
          <a:bodyPr anchor="t">
            <a:normAutofit/>
          </a:bodyPr>
          <a:p>
            <a:pPr marL="343080" indent="-343080">
              <a:spcBef>
                <a:spcPts val="9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ahoma"/>
              </a:rPr>
              <a:t>Bilanţul este un procedeu al metodei contabilităţii  prin care se asigură dubla reprezentare a averii. El evidenţiază în expresie valorică, la un moment dat, echilibrul dintre bunurile economice şi sursele lor de finanţare. Bilanţul se prezintă sub forma unui tablou, format din două părţi: partea din stânga denumită activ, iar cea din dreapta pasiv.</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I</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numai în pasivul bilanţului, în sensul creşterii unui post de pasiv şi concomitent şi cu aceiaşi sumă, micşorarea unui alt post de pasiv, totalul pasivului rămânând neschimbat, egalitatea bilanţieră menţinându-se (A = P+X-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0" y="-15372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Operaţia 2</a:t>
            </a:r>
            <a:r>
              <a:rPr b="0" lang="ro-RO" sz="2000" spc="-1" strike="noStrike">
                <a:solidFill>
                  <a:srgbClr val="000000"/>
                </a:solidFill>
                <a:latin typeface="Arial"/>
                <a:ea typeface="Times New Roman"/>
              </a:rPr>
              <a:t>. </a:t>
            </a:r>
            <a:r>
              <a:rPr b="0" i="1" lang="ro-RO" sz="2000" spc="-1" strike="noStrike">
                <a:solidFill>
                  <a:srgbClr val="000000"/>
                </a:solidFill>
                <a:latin typeface="Arial"/>
                <a:ea typeface="Times New Roman"/>
              </a:rPr>
              <a:t>Din contul unui credit bancar se achită furnizorilor o datorie în sumă de 200 000 lei, ajunsă la scadenţă.</a:t>
            </a:r>
            <a:r>
              <a:rPr b="0" i="1" lang="ro-RO" sz="2000" spc="-1" strike="noStrike">
                <a:solidFill>
                  <a:srgbClr val="000000"/>
                </a:solidFill>
                <a:latin typeface="Arial"/>
              </a:rPr>
              <a:t> </a:t>
            </a:r>
            <a:r>
              <a:rPr b="0" lang="ro-RO" sz="2000" spc="-1" strike="noStrike">
                <a:solidFill>
                  <a:srgbClr val="000000"/>
                </a:solidFill>
                <a:latin typeface="Arial"/>
                <a:ea typeface="Times New Roman"/>
              </a:rPr>
              <a:t>Operaţia dată determină o scădere de pasiv (scad datoriile pe termen scurt privind facturile comerciale) şi o creştere de pasiv (cresc datoriile faţă de bancă) concomitent şi cu aceiaşi sumă. Datoriile pe termen scurt privind facturile comerciale devin 50 000 lei (250 000 – 200 000), iar creditele bancare pe termen scurt devin 290 100 lei (90 100 + 200 000). Ca bilanţ la începutul perioadei de gestiune serveşte bilanţul  după operaţia precedentă. Bilanţul contabil, după această operaţie, se prezintă astfel: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Bilanţul contabil la ____________</a:t>
            </a:r>
            <a:r>
              <a:rPr b="0" lang="ro-RO" sz="1900" spc="-1" strike="noStrike">
                <a:solidFill>
                  <a:srgbClr val="000000"/>
                </a:solidFill>
                <a:latin typeface="Arial"/>
              </a:rPr>
              <a:t> </a:t>
            </a:r>
            <a:r>
              <a:rPr b="0" lang="ro-RO" sz="2000" spc="-1" strike="noStrike">
                <a:solidFill>
                  <a:srgbClr val="000000"/>
                </a:solidFill>
                <a:latin typeface="Arial"/>
                <a:ea typeface="Times New Roman"/>
              </a:rPr>
              <a:t>(lei)</a:t>
            </a:r>
            <a:endParaRPr b="0" lang="en-US" sz="2000" spc="-1" strike="noStrike">
              <a:solidFill>
                <a:srgbClr val="000000"/>
              </a:solidFill>
              <a:latin typeface="Tahoma"/>
            </a:endParaRPr>
          </a:p>
        </p:txBody>
      </p:sp>
      <p:graphicFrame>
        <p:nvGraphicFramePr>
          <p:cNvPr id="179" name=""/>
          <p:cNvGraphicFramePr/>
          <p:nvPr/>
        </p:nvGraphicFramePr>
        <p:xfrm>
          <a:off x="457200" y="3048120"/>
          <a:ext cx="8458200" cy="3538440"/>
        </p:xfrm>
        <a:graphic>
          <a:graphicData uri="http://schemas.openxmlformats.org/drawingml/2006/table">
            <a:tbl>
              <a:tblPr/>
              <a:tblGrid>
                <a:gridCol w="2841480"/>
                <a:gridCol w="1314720"/>
                <a:gridCol w="3225600"/>
                <a:gridCol w="1076400"/>
              </a:tblGrid>
              <a:tr h="75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II</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în ambele părţi ale bilanţului, în sensul creşterii unui post de activ şi concomitent şi cu aceiaşi sumă, creşterea unui  post de pasiv, totalul activului şi pasivului crescând cu suma respectivă, egalitatea bilanţieră menţinându-se (A+X = P+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0" y="24480"/>
            <a:ext cx="9144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3. </a:t>
            </a:r>
            <a:r>
              <a:rPr b="0" i="1" lang="ro-RO" sz="1800" spc="-1" strike="noStrike">
                <a:solidFill>
                  <a:srgbClr val="000000"/>
                </a:solidFill>
                <a:latin typeface="Arial"/>
                <a:ea typeface="Times New Roman"/>
              </a:rPr>
              <a:t>Se cumpără un lot de mărfuri cu plata ulterioară la valoarea de procurare de 80 000 lei.</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Operaţia dată determină o creştere de activ (creşte stocul de mărfuri) şi o creştere de pasiv (creşte datoria faţă de furnizori) concomitent şi cu aceiaşi sumă. Stocul de mărfuri devine 380 000 lei (300 000 + 80 000), iar datoriile pe termen scurt privind facturile comerciale (faţă de furnizori) devin 130 000 lei (50 000 + 80 000). Ca bilanţ la începutul perioadei de gestiune serveşte bilanţul  după operaţia precedentă.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83" name=""/>
          <p:cNvGraphicFramePr/>
          <p:nvPr/>
        </p:nvGraphicFramePr>
        <p:xfrm>
          <a:off x="304920" y="2971800"/>
          <a:ext cx="8610480" cy="3581280"/>
        </p:xfrm>
        <a:graphic>
          <a:graphicData uri="http://schemas.openxmlformats.org/drawingml/2006/table">
            <a:tbl>
              <a:tblPr/>
              <a:tblGrid>
                <a:gridCol w="2892240"/>
                <a:gridCol w="1338480"/>
                <a:gridCol w="3286080"/>
                <a:gridCol w="1093680"/>
              </a:tblGrid>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ărfuri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8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9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3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faţă de buge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7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7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V</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în ambele părţi ale bilanţului, în sensul micşorării unui post de activ şi concomitent şi cu aceiaşi sumă, micşorarea unui  post de pasiv, totalul activului şi pasivului micşorându-se cu suma respectivă, egalitatea bilanţieră menţinându-se (A-X = P-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152280" y="159480"/>
            <a:ext cx="883944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4.</a:t>
            </a:r>
            <a:r>
              <a:rPr b="0" lang="ro-RO" sz="1800" spc="-1" strike="noStrike">
                <a:solidFill>
                  <a:srgbClr val="000000"/>
                </a:solidFill>
                <a:latin typeface="Arial"/>
                <a:ea typeface="Times New Roman"/>
              </a:rPr>
              <a:t> </a:t>
            </a:r>
            <a:r>
              <a:rPr b="0" i="1" lang="ro-RO" sz="1800" spc="-1" strike="noStrike">
                <a:solidFill>
                  <a:srgbClr val="000000"/>
                </a:solidFill>
                <a:latin typeface="Arial"/>
                <a:ea typeface="Times New Roman"/>
              </a:rPr>
              <a:t>Din disponibilul de la contul de decontare se achită un credit bancar în sumă de 100 000 lei ajuns la scadenţă.</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Operaţia dată determină o scădere de activ (scade disponibilul de la contul de decontare) şi o scădere de pasiv (descresc creditele bancare pe termen scurt) concomitent şi cu aceiaşi sumă. Disponibilul de la contul de decontare devine 10 000 lei (110 000 – 100 000), iar creditele bancare pe termen scurt devin 190 100 lei (290 100 - 100 000). Ca bilanţ la începutul perioadei de gestiune serveşte bilanţul  după operaţia precedentă.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87" name=""/>
          <p:cNvGraphicFramePr/>
          <p:nvPr/>
        </p:nvGraphicFramePr>
        <p:xfrm>
          <a:off x="1295280" y="3276720"/>
          <a:ext cx="6369120" cy="3475080"/>
        </p:xfrm>
        <a:graphic>
          <a:graphicData uri="http://schemas.openxmlformats.org/drawingml/2006/table">
            <a:tbl>
              <a:tblPr/>
              <a:tblGrid>
                <a:gridCol w="2140200"/>
                <a:gridCol w="807840"/>
                <a:gridCol w="2251080"/>
                <a:gridCol w="1170000"/>
              </a:tblGrid>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ărfuri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8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9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3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faţă de buge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6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6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Forma prescurtată bilanţului contabil</a:t>
            </a:r>
            <a:endParaRPr b="0" lang="en-US" sz="3600" spc="-1" strike="noStrike">
              <a:solidFill>
                <a:srgbClr val="000000"/>
              </a:solidFill>
              <a:latin typeface="Arial"/>
            </a:endParaRPr>
          </a:p>
        </p:txBody>
      </p:sp>
      <p:graphicFrame>
        <p:nvGraphicFramePr>
          <p:cNvPr id="155" name=""/>
          <p:cNvGraphicFramePr/>
          <p:nvPr/>
        </p:nvGraphicFramePr>
        <p:xfrm>
          <a:off x="228600" y="3124080"/>
          <a:ext cx="8763120" cy="1981440"/>
        </p:xfrm>
        <a:graphic>
          <a:graphicData uri="http://schemas.openxmlformats.org/drawingml/2006/table">
            <a:tbl>
              <a:tblPr/>
              <a:tblGrid>
                <a:gridCol w="4381560"/>
                <a:gridCol w="4381560"/>
              </a:tblGrid>
              <a:tr h="56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dddddd"/>
                          </a:solidFill>
                          <a:latin typeface="Tahoma"/>
                        </a:rPr>
                        <a:t>Activ</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dddddd"/>
                          </a:solidFill>
                          <a:latin typeface="Tahoma"/>
                        </a:rPr>
                        <a:t>Pasiv</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r>
              <a:tr h="841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pecificarea în expresie valorică a bunurilor economice aflate la dispoziţia întreprinderii </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pecificarea în expresie valorică a surselor de provienienţă a bunurilor economice din activ</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r>
              <a:tr h="569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r>
            </a:tbl>
          </a:graphicData>
        </a:graphic>
      </p:graphicFrame>
      <p:sp>
        <p:nvSpPr>
          <p:cNvPr id="156" name="Rectangle 2"/>
          <p:cNvSpPr/>
          <p:nvPr/>
        </p:nvSpPr>
        <p:spPr>
          <a:xfrm>
            <a:off x="1523880" y="2412360"/>
            <a:ext cx="57913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încheiat la data _____________</a:t>
            </a:r>
            <a:endParaRPr b="0" lang="en-US" sz="1800" spc="-1" strike="noStrike">
              <a:solidFill>
                <a:srgbClr val="000000"/>
              </a:solidFill>
              <a:latin typeface="Tahoma"/>
            </a:endParaRPr>
          </a:p>
        </p:txBody>
      </p:sp>
      <p:sp>
        <p:nvSpPr>
          <p:cNvPr id="157" name="CasetăText 9"/>
          <p:cNvSpPr/>
          <p:nvPr/>
        </p:nvSpPr>
        <p:spPr>
          <a:xfrm>
            <a:off x="609480" y="1600200"/>
            <a:ext cx="82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În forma cea mai simplă bilanţul se prezintă astfe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Forma prescurtată bilanţului contabil</a:t>
            </a:r>
            <a:endParaRPr b="0" lang="en-US" sz="4000" spc="-1" strike="noStrike">
              <a:solidFill>
                <a:srgbClr val="000000"/>
              </a:solidFill>
              <a:latin typeface="Arial"/>
            </a:endParaRPr>
          </a:p>
        </p:txBody>
      </p:sp>
      <p:graphicFrame>
        <p:nvGraphicFramePr>
          <p:cNvPr id="159" name=""/>
          <p:cNvGraphicFramePr/>
          <p:nvPr/>
        </p:nvGraphicFramePr>
        <p:xfrm>
          <a:off x="228600" y="2971800"/>
          <a:ext cx="8763120" cy="1290600"/>
        </p:xfrm>
        <a:graphic>
          <a:graphicData uri="http://schemas.openxmlformats.org/drawingml/2006/table">
            <a:tbl>
              <a:tblPr/>
              <a:tblGrid>
                <a:gridCol w="2971800"/>
                <a:gridCol w="1409760"/>
                <a:gridCol w="2857320"/>
                <a:gridCol w="1524240"/>
              </a:tblGrid>
              <a:tr h="370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ea typeface="Times New Roman"/>
                        </a:rPr>
                        <a:t>Activ</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Suma,</a:t>
                      </a:r>
                      <a:r>
                        <a:rPr b="0" lang="ro-RO" sz="1600" spc="-1" strike="noStrike">
                          <a:solidFill>
                            <a:srgbClr val="000000"/>
                          </a:solidFill>
                          <a:latin typeface="Calibri"/>
                          <a:ea typeface="Times New Roman"/>
                        </a:rPr>
                        <a:t> lei</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Pasiv</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Suma, </a:t>
                      </a:r>
                      <a:r>
                        <a:rPr b="0" lang="ro-RO" sz="1600" spc="-1" strike="noStrike">
                          <a:solidFill>
                            <a:srgbClr val="000000"/>
                          </a:solidFill>
                          <a:latin typeface="Calibri"/>
                          <a:ea typeface="Times New Roman"/>
                        </a:rPr>
                        <a:t>lei</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numirea elementelor patrimoniale de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numirea elementelor patrimoniale de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r>
              <a:tr h="370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general –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general –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r>
            </a:tbl>
          </a:graphicData>
        </a:graphic>
      </p:graphicFrame>
      <p:sp>
        <p:nvSpPr>
          <p:cNvPr id="160" name="CasetăText 5"/>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ilanţul reprezintă o grupare a activelor după componenţa şi destinaţia acestora ca obiecte de drepturi şi obligaţii, şi drepturi şi obligaţii asupra acestor active în expresie valorică la o anumită dată, de regulă la data ultimei zile a perioadei de gestiune. Schema bilanţului contabil este:</a:t>
            </a:r>
            <a:endParaRPr b="0" lang="en-US" sz="1800" spc="-1" strike="noStrike">
              <a:solidFill>
                <a:srgbClr val="000000"/>
              </a:solidFill>
              <a:latin typeface="Tahoma"/>
            </a:endParaRPr>
          </a:p>
        </p:txBody>
      </p:sp>
      <p:sp>
        <p:nvSpPr>
          <p:cNvPr id="161" name="CasetăText 6"/>
          <p:cNvSpPr/>
          <p:nvPr/>
        </p:nvSpPr>
        <p:spPr>
          <a:xfrm>
            <a:off x="380880" y="213372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ilanţul contabi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încheiat la data _____________</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CasetăText 9"/>
          <p:cNvSpPr/>
          <p:nvPr/>
        </p:nvSpPr>
        <p:spPr>
          <a:xfrm>
            <a:off x="0" y="44956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Principala particularitate a bilanţului contabil constă în egalitatea activelor şi pasivelor, adică total general-activ trebuie să fie egal cu total general-pasiv. (Schematic A </a:t>
            </a:r>
            <a:r>
              <a:rPr b="0" lang="en-US" sz="1800" spc="-1" strike="noStrike">
                <a:solidFill>
                  <a:srgbClr val="000000"/>
                </a:solidFill>
                <a:latin typeface="Tahoma"/>
              </a:rPr>
              <a:t>= P</a:t>
            </a:r>
            <a:r>
              <a:rPr b="0" lang="ro-RO" sz="1800" spc="-1" strike="noStrike">
                <a:solidFill>
                  <a:srgbClr val="000000"/>
                </a:solidFill>
                <a:latin typeface="Tahoma"/>
              </a:rPr>
              <a:t>). Această egalitate inerentă bilanţului contabil se exprimă prin aceea că în bilanţ este reprezentată aceiaşi masă de active, dar privită din două aspecte: sub aspectul componenţei, existenţei şi destinaţiei activelor şi sub aspectul drepturilor şi obligaţiilor asupra acestei mase de ac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ificarea bilanţului contabil</a:t>
            </a:r>
            <a:endParaRPr b="0" lang="en-US" sz="4400" spc="-1" strike="noStrike">
              <a:solidFill>
                <a:srgbClr val="000000"/>
              </a:solidFill>
              <a:latin typeface="Arial"/>
            </a:endParaRPr>
          </a:p>
        </p:txBody>
      </p:sp>
      <p:pic>
        <p:nvPicPr>
          <p:cNvPr id="164" name="Substituent conținut 4" descr=""/>
          <p:cNvPicPr/>
          <p:nvPr/>
        </p:nvPicPr>
        <p:blipFill>
          <a:blip r:embed="rId1"/>
          <a:stretch/>
        </p:blipFill>
        <p:spPr>
          <a:xfrm>
            <a:off x="-6480" y="676440"/>
            <a:ext cx="915696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8991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uncţiile bilanţului contabil</a:t>
            </a:r>
            <a:endParaRPr b="0" lang="en-US" sz="4400" spc="-1" strike="noStrike">
              <a:solidFill>
                <a:srgbClr val="000000"/>
              </a:solidFill>
              <a:latin typeface="Arial"/>
            </a:endParaRPr>
          </a:p>
        </p:txBody>
      </p:sp>
      <p:pic>
        <p:nvPicPr>
          <p:cNvPr id="166" name="Substituent conținut 3" descr=""/>
          <p:cNvPicPr/>
          <p:nvPr/>
        </p:nvPicPr>
        <p:blipFill>
          <a:blip r:embed="rId1"/>
          <a:stretch/>
        </p:blipFill>
        <p:spPr>
          <a:xfrm>
            <a:off x="122400" y="835200"/>
            <a:ext cx="8912160" cy="580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9144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ţinutul şi structura bilanţului contabil</a:t>
            </a:r>
            <a:endParaRPr b="0" lang="en-US" sz="4000" spc="-1" strike="noStrike">
              <a:solidFill>
                <a:srgbClr val="000000"/>
              </a:solidFill>
              <a:latin typeface="Arial"/>
            </a:endParaRPr>
          </a:p>
        </p:txBody>
      </p:sp>
      <p:sp>
        <p:nvSpPr>
          <p:cNvPr id="16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dicatorii bilanţieri prin care sunt grupate şi generalizate elementele de activ şi pasiv poartă denumirea de posturi de bilanţ. Fiecare element de activ şi pasiv constituie, după caz, un post de activ sau pasiv. La rândul lor posturile sunt grupate şi  sistematizate în capitole şi grupe de activ şi respectiv de pasiv.</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drul activului, posturile sunt grupate în funcţie de modul de valorificare şi gradul de lichiditate. Aşezarea posturilor în activul bilanţului este cea inversă lichidităţii activelor, începând cu cele mai puţin lichide şi terminând cu mijloacele băneşti care îmbracă forma de bani lichizi.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drul pasivului, posturile sunt grupate în funcţie de căile de formare a surselor de finanţare şi gradul lor de exigibilitat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Bilanţul contabil conţine cinci capitole, dintre care două sunt în activ, iar trei în pasiv.</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nfluenţa operaţiilor economice asupra bilanţului contabil</a:t>
            </a:r>
            <a:endParaRPr b="0" lang="en-US" sz="2400" spc="-1" strike="noStrike">
              <a:solidFill>
                <a:srgbClr val="000000"/>
              </a:solidFill>
              <a:latin typeface="Arial"/>
            </a:endParaRPr>
          </a:p>
        </p:txBody>
      </p:sp>
      <p:sp>
        <p:nvSpPr>
          <p:cNvPr id="17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atrimoniul întreprinderii sa află într-un continuu proces de mişcare, care este descris de contabilitate prin prisma operaţiilor economico-financiare. Aceste operaţii produc modificări continue în volumul şi structura elementelor patrimoniale, influenţând astfel mărimea posturilor din bilanţ corespunzătoare elementelor respective. Oricât de variate ar fi operaţiile economice sub aspectul naturii şi conţinutului lor economic, din punct de vedere al tipurilor de modificări pe care le produc asupra activului şi pasivului, ele se grupează în patru categorii şi anum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1" lang="ro-RO" sz="2400" spc="-1" strike="noStrike">
                <a:solidFill>
                  <a:srgbClr val="000000"/>
                </a:solidFill>
                <a:latin typeface="Tahoma"/>
              </a:rPr>
              <a:t>Categoria I:</a:t>
            </a:r>
            <a:r>
              <a:rPr b="0" lang="ro-RO" sz="2400" spc="-1" strike="noStrike">
                <a:solidFill>
                  <a:srgbClr val="000000"/>
                </a:solidFill>
                <a:latin typeface="Tahoma"/>
              </a:rPr>
              <a:t> </a:t>
            </a:r>
            <a:r>
              <a:rPr b="0" i="1" lang="ro-RO" sz="2400" spc="-1" strike="noStrike">
                <a:solidFill>
                  <a:srgbClr val="000000"/>
                </a:solidFill>
                <a:latin typeface="Tahoma"/>
              </a:rPr>
              <a:t>Operaţii economice care produc modificări numai în activul bilanţului, în sensul creşterii unui post de activ şi concomitent şi cu aceiaşi sumă, micşorarea unui alt post de activ, totalul activului rămânând neschimbat, egalitatea menţinându-se (A+X-X = 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Exemplu </a:t>
            </a:r>
            <a:endParaRPr b="0" lang="en-US" sz="4000" spc="-1" strike="noStrike">
              <a:solidFill>
                <a:srgbClr val="000000"/>
              </a:solidFill>
              <a:latin typeface="Arial"/>
            </a:endParaRPr>
          </a:p>
        </p:txBody>
      </p:sp>
      <p:sp>
        <p:nvSpPr>
          <p:cNvPr id="172" name="Rectangle 4"/>
          <p:cNvSpPr/>
          <p:nvPr/>
        </p:nvSpPr>
        <p:spPr>
          <a:xfrm>
            <a:off x="-430200" y="975600"/>
            <a:ext cx="6373800" cy="8240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Se prezintă bilanţul contabil la începutul perioadei de gestiune.</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Bilanţul contabil la ____________</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lei)</a:t>
            </a:r>
            <a:endParaRPr b="0" lang="en-US" sz="1600" spc="-1" strike="noStrike">
              <a:solidFill>
                <a:srgbClr val="000000"/>
              </a:solidFill>
              <a:latin typeface="Tahoma"/>
            </a:endParaRPr>
          </a:p>
        </p:txBody>
      </p:sp>
      <p:graphicFrame>
        <p:nvGraphicFramePr>
          <p:cNvPr id="173" name=""/>
          <p:cNvGraphicFramePr/>
          <p:nvPr/>
        </p:nvGraphicFramePr>
        <p:xfrm>
          <a:off x="0" y="2133720"/>
          <a:ext cx="8915400" cy="4724280"/>
        </p:xfrm>
        <a:graphic>
          <a:graphicData uri="http://schemas.openxmlformats.org/drawingml/2006/table">
            <a:tbl>
              <a:tblPr/>
              <a:tblGrid>
                <a:gridCol w="2994120"/>
                <a:gridCol w="1387440"/>
                <a:gridCol w="3400200"/>
                <a:gridCol w="1133640"/>
              </a:tblGrid>
              <a:tr h="1006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Sum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1.</a:t>
            </a:r>
            <a:r>
              <a:rPr b="0" lang="ro-RO" sz="1800" spc="-1" strike="noStrike">
                <a:solidFill>
                  <a:srgbClr val="000000"/>
                </a:solidFill>
                <a:latin typeface="Arial"/>
                <a:ea typeface="Times New Roman"/>
              </a:rPr>
              <a:t> </a:t>
            </a:r>
            <a:r>
              <a:rPr b="0" i="1" lang="ro-RO" sz="1800" spc="-1" strike="noStrike">
                <a:solidFill>
                  <a:srgbClr val="000000"/>
                </a:solidFill>
                <a:latin typeface="Arial"/>
                <a:ea typeface="Times New Roman"/>
              </a:rPr>
              <a:t>Se ridică din contul de decontare de la bancă suma de 40 000 lei şi se depune în casieria întreprinderii</a:t>
            </a:r>
            <a:r>
              <a:rPr b="0" lang="ro-RO" sz="1800" spc="-1" strike="noStrike">
                <a:solidFill>
                  <a:srgbClr val="000000"/>
                </a:solidFill>
                <a:latin typeface="Arial"/>
                <a:ea typeface="Times New Roman"/>
              </a:rPr>
              <a:t>.</a:t>
            </a:r>
            <a:r>
              <a:rPr b="0" lang="ro-RO" sz="1800" spc="-1" strike="noStrike">
                <a:solidFill>
                  <a:srgbClr val="000000"/>
                </a:solidFill>
                <a:latin typeface="Arial"/>
              </a:rPr>
              <a:t> </a:t>
            </a:r>
            <a:r>
              <a:rPr b="0" lang="ro-RO" sz="1800" spc="-1" strike="noStrike">
                <a:solidFill>
                  <a:srgbClr val="000000"/>
                </a:solidFill>
                <a:latin typeface="Arial"/>
                <a:ea typeface="Times New Roman"/>
              </a:rPr>
              <a:t>Operaţia dată determină o scădere de activ (scade disponibilul de la contul de decontare) şi o creştere de activ (creşte numeralul în casă) concomitent şi cu aceiaşi sumă. Disponibilul de la contul de decontare devine 110 000 lei (150 000 – 40 000), iar numerarul din casă devine 40 100 lei (100 + 40 000). 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r>
              <a:rPr b="0" lang="ro-RO" sz="1800" spc="-1" strike="noStrike">
                <a:solidFill>
                  <a:srgbClr val="000000"/>
                </a:solidFill>
                <a:latin typeface="Arial"/>
              </a:rPr>
              <a:t> </a:t>
            </a: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75" name=""/>
          <p:cNvGraphicFramePr/>
          <p:nvPr/>
        </p:nvGraphicFramePr>
        <p:xfrm>
          <a:off x="380880" y="2352600"/>
          <a:ext cx="7543800" cy="3597480"/>
        </p:xfrm>
        <a:graphic>
          <a:graphicData uri="http://schemas.openxmlformats.org/drawingml/2006/table">
            <a:tbl>
              <a:tblPr/>
              <a:tblGrid>
                <a:gridCol w="2206800"/>
                <a:gridCol w="1022400"/>
                <a:gridCol w="2504880"/>
                <a:gridCol w="1809720"/>
              </a:tblGrid>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rporate Edition</cp:lastModifiedBy>
  <dcterms:modified xsi:type="dcterms:W3CDTF">2010-01-31T11:17:1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